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7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5d5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6BAC-5B47-4C44-B8BE-2165D184EA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FF14-29E4-4136-9989-2971F2D6AE8F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D679-7297-426E-8AA2-B3EB50DB6F29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DD8A-CDE7-4E7A-AC7B-F02757157A53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liennummernplatzhalt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EE6F-F3E9-4C1B-8BF3-75C0F593D296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3AC05-EF0B-49CA-A82B-7B71D06B1E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D0EB3-0D94-423E-BE91-0EDD2837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6E1B0-F290-46F4-8F35-21600536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E527A-6522-4121-AAB1-82CFD4B698E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963FC-2393-443A-89AE-CF87E29A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145F3-9D76-4710-943B-C7EFE395D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A38F0-C1AE-4C8B-B06E-37EF32BC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DFF86-4808-4D8B-914B-973ED3C8D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837EE-7134-4D12-9D9D-06C3651C2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64D4E-750E-4330-A10D-DCF9814CE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EEC92-D51F-4E0C-801E-ACDE0756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2973-A394-4D94-AB33-89B14A71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" name="Rectangle 29"/>
          <p:cNvSpPr/>
          <p:nvPr/>
        </p:nvSpPr>
        <p:spPr>
          <a:xfrm>
            <a:off x="7696080" y="0"/>
            <a:ext cx="685800" cy="685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6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01992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7848720" y="6552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D21BB-7AF5-40B3-BC81-0CD750A8EC35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8" descr="typo-Alter-1-1"/>
          <p:cNvPicPr/>
          <p:nvPr/>
        </p:nvPicPr>
        <p:blipFill>
          <a:blip r:embed="rId2"/>
          <a:stretch/>
        </p:blipFill>
        <p:spPr>
          <a:xfrm>
            <a:off x="5486400" y="304920"/>
            <a:ext cx="2057400" cy="279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40"/>
          <p:cNvSpPr/>
          <p:nvPr/>
        </p:nvSpPr>
        <p:spPr>
          <a:xfrm>
            <a:off x="152280" y="6583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Veranstaltung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" name="Text Box 41"/>
          <p:cNvSpPr/>
          <p:nvPr/>
        </p:nvSpPr>
        <p:spPr>
          <a:xfrm>
            <a:off x="3733920" y="6583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Rectangle 43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solidFill>
            <a:srgbClr val="f0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alterundtrauma.de/mediathek/hoeren/es-wuehlt-zuerst-auf-aber-hinterher-wirds-ein-bisschen-leichter.html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hyperlink" Target="http://www.alterundtrauma.de/mediathek/hoeren/es-wuehlt-zuerst-auf-aber-hinterher-wirds-ein-bisschen-leichter.html" TargetMode="Externa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4E64-1FE9-45A7-A38E-804E1752072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4" name="Rectangle 5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5" name="Text Box 52"/>
          <p:cNvSpPr/>
          <p:nvPr/>
        </p:nvSpPr>
        <p:spPr>
          <a:xfrm>
            <a:off x="2971800" y="5791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6" name="Rectangle 55"/>
          <p:cNvSpPr/>
          <p:nvPr/>
        </p:nvSpPr>
        <p:spPr>
          <a:xfrm>
            <a:off x="4800600" y="2133720"/>
            <a:ext cx="1828800" cy="1828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57" name="Picture 57" descr="frau-kopf"/>
          <p:cNvPicPr/>
          <p:nvPr/>
        </p:nvPicPr>
        <p:blipFill>
          <a:blip r:embed="rId1"/>
          <a:stretch/>
        </p:blipFill>
        <p:spPr>
          <a:xfrm>
            <a:off x="28195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mann-frontal"/>
          <p:cNvPicPr/>
          <p:nvPr/>
        </p:nvPicPr>
        <p:blipFill>
          <a:blip r:embed="rId2"/>
          <a:stretch/>
        </p:blipFill>
        <p:spPr>
          <a:xfrm>
            <a:off x="480060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3"/>
          <p:cNvSpPr/>
          <p:nvPr/>
        </p:nvSpPr>
        <p:spPr>
          <a:xfrm>
            <a:off x="2819520" y="4114800"/>
            <a:ext cx="1828800" cy="1828800"/>
          </a:xfrm>
          <a:prstGeom prst="rect">
            <a:avLst/>
          </a:prstGeom>
          <a:solidFill>
            <a:srgbClr val="006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0" name="Picture 66" descr="typo-Alter-1-1"/>
          <p:cNvPicPr/>
          <p:nvPr/>
        </p:nvPicPr>
        <p:blipFill>
          <a:blip r:embed="rId3"/>
          <a:stretch/>
        </p:blipFill>
        <p:spPr>
          <a:xfrm>
            <a:off x="2819520" y="685800"/>
            <a:ext cx="380988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F887-9AEF-41EA-AF0A-8F4B850F28B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6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457200" y="78264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Beziehungsgestaltung 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857160" y="1832040"/>
            <a:ext cx="721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Grenzen der eigenen Berufsrolle acht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ürdigung der Erfahrungen und Gefühl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Tros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Respek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Ressourcenorientier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icherheit schaff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Transparenz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elbstwirksamkeitserfahrungen ermöglich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9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18DA-3469-40CF-907C-7BB908691328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11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C:\Users\Wilwasser\AppData\Local\Microsoft\Windows\Temporary Internet Files\Content.IE5\N486E3VY\MC900281285[1].wmf"/>
          <p:cNvPicPr/>
          <p:nvPr/>
        </p:nvPicPr>
        <p:blipFill>
          <a:blip r:embed="rId2"/>
          <a:stretch/>
        </p:blipFill>
        <p:spPr>
          <a:xfrm>
            <a:off x="3203640" y="1916280"/>
            <a:ext cx="2519280" cy="3728880"/>
          </a:xfrm>
          <a:prstGeom prst="rect">
            <a:avLst/>
          </a:prstGeom>
          <a:ln w="0">
            <a:noFill/>
          </a:ln>
        </p:spPr>
      </p:pic>
      <p:sp>
        <p:nvSpPr>
          <p:cNvPr id="113" name="Textfeld 5"/>
          <p:cNvSpPr/>
          <p:nvPr/>
        </p:nvSpPr>
        <p:spPr>
          <a:xfrm>
            <a:off x="1571760" y="77328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Wie Unerhörtes gehört wird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4" name="Textfeld 27"/>
          <p:cNvSpPr/>
          <p:nvPr/>
        </p:nvSpPr>
        <p:spPr>
          <a:xfrm>
            <a:off x="855720" y="1670040"/>
            <a:ext cx="2214360" cy="82404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Sicherheit schaff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5" name="Textfeld 29"/>
          <p:cNvSpPr/>
          <p:nvPr/>
        </p:nvSpPr>
        <p:spPr>
          <a:xfrm>
            <a:off x="849240" y="2779560"/>
            <a:ext cx="2143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Traumatische Erfahrungen mitdenk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6" name="Textfeld 31"/>
          <p:cNvSpPr/>
          <p:nvPr/>
        </p:nvSpPr>
        <p:spPr>
          <a:xfrm>
            <a:off x="6286680" y="1590840"/>
            <a:ext cx="2357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Traumatische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Erfahrungen ernst nehm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7" name="Textfeld 35"/>
          <p:cNvSpPr/>
          <p:nvPr/>
        </p:nvSpPr>
        <p:spPr>
          <a:xfrm>
            <a:off x="6350040" y="2800440"/>
            <a:ext cx="2357280" cy="1310760"/>
          </a:xfrm>
          <a:prstGeom prst="rect">
            <a:avLst/>
          </a:prstGeom>
          <a:noFill/>
          <a:ln w="9360">
            <a:solidFill>
              <a:srgbClr val="003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Vermutungen über traumatische Erfahrungen im Team teilen und besprec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8" name="Textfeld 33"/>
          <p:cNvSpPr/>
          <p:nvPr/>
        </p:nvSpPr>
        <p:spPr>
          <a:xfrm>
            <a:off x="768240" y="3879720"/>
            <a:ext cx="2357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Erfahrungen der Selbstwirksamkeit ermöglic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9" name="Textfeld 18"/>
          <p:cNvSpPr/>
          <p:nvPr/>
        </p:nvSpPr>
        <p:spPr>
          <a:xfrm>
            <a:off x="6338880" y="4653000"/>
            <a:ext cx="242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Ressourcen erfrag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0" name="Textfeld 27"/>
          <p:cNvSpPr/>
          <p:nvPr/>
        </p:nvSpPr>
        <p:spPr>
          <a:xfrm>
            <a:off x="826920" y="2813040"/>
            <a:ext cx="2214720" cy="82404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1" name="Textfeld 27"/>
          <p:cNvSpPr/>
          <p:nvPr/>
        </p:nvSpPr>
        <p:spPr>
          <a:xfrm>
            <a:off x="858960" y="3879720"/>
            <a:ext cx="2214360" cy="82404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2" name="Textfeld 27"/>
          <p:cNvSpPr/>
          <p:nvPr/>
        </p:nvSpPr>
        <p:spPr>
          <a:xfrm>
            <a:off x="6415200" y="1592280"/>
            <a:ext cx="2214360" cy="82404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3" name="Textfeld 27"/>
          <p:cNvSpPr/>
          <p:nvPr/>
        </p:nvSpPr>
        <p:spPr>
          <a:xfrm>
            <a:off x="6443640" y="4437000"/>
            <a:ext cx="2214720" cy="82404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4" name="Line 27"/>
          <p:cNvSpPr/>
          <p:nvPr/>
        </p:nvSpPr>
        <p:spPr>
          <a:xfrm>
            <a:off x="3071880" y="2214720"/>
            <a:ext cx="655560" cy="23472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5" name="Line 28"/>
          <p:cNvSpPr/>
          <p:nvPr/>
        </p:nvSpPr>
        <p:spPr>
          <a:xfrm>
            <a:off x="3040200" y="3143160"/>
            <a:ext cx="433080" cy="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6" name="Line 29"/>
          <p:cNvSpPr/>
          <p:nvPr/>
        </p:nvSpPr>
        <p:spPr>
          <a:xfrm flipV="1">
            <a:off x="3071880" y="4000320"/>
            <a:ext cx="585720" cy="28548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7" name="Line 30"/>
          <p:cNvSpPr/>
          <p:nvPr/>
        </p:nvSpPr>
        <p:spPr>
          <a:xfrm flipH="1">
            <a:off x="5632560" y="1989000"/>
            <a:ext cx="792000" cy="64800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 flipH="1">
            <a:off x="5551560" y="3429000"/>
            <a:ext cx="792000" cy="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29" name="Line 32"/>
          <p:cNvSpPr/>
          <p:nvPr/>
        </p:nvSpPr>
        <p:spPr>
          <a:xfrm flipH="1" flipV="1">
            <a:off x="5508360" y="4292640"/>
            <a:ext cx="925560" cy="54288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0" name="Textfeld 27"/>
          <p:cNvSpPr/>
          <p:nvPr/>
        </p:nvSpPr>
        <p:spPr>
          <a:xfrm>
            <a:off x="857160" y="5065560"/>
            <a:ext cx="2214720" cy="1067400"/>
          </a:xfrm>
          <a:prstGeom prst="rect">
            <a:avLst/>
          </a:prstGeom>
          <a:noFill/>
          <a:ln w="9360">
            <a:solidFill>
              <a:srgbClr val="006cb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Wissen und Informatio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 flipV="1">
            <a:off x="3071880" y="5071680"/>
            <a:ext cx="857160" cy="428760"/>
          </a:xfrm>
          <a:prstGeom prst="line">
            <a:avLst/>
          </a:prstGeom>
          <a:ln w="9360">
            <a:solidFill>
              <a:srgbClr val="56565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2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AC6A-7633-4B48-B2DD-3E31834B08C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34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572000" y="928440"/>
            <a:ext cx="4330800" cy="5072040"/>
          </a:xfrm>
          <a:prstGeom prst="rect">
            <a:avLst/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Wissen und Informatio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Wissen über sexualisierte Gewalt, kriegsbedingte Traumata und Re-traumatisierung / Trauma-Reaktivierung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Wissen um Sozialisation der heute älteren und alten Mensc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Einordnen von individuellen Erfahrungen in gesellschaftliche, historische und politische Zusammenhänge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Kenntnis von Anlauf- und Beratungsstellen in der Regio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6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AE8A-CF5F-4EEA-A81C-E8263DF1464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38" name="Legende mit Linie 2 24"/>
          <p:cNvSpPr/>
          <p:nvPr/>
        </p:nvSpPr>
        <p:spPr>
          <a:xfrm>
            <a:off x="4572000" y="928800"/>
            <a:ext cx="4330800" cy="3652560"/>
          </a:xfrm>
          <a:prstGeom prst="borderCallout2">
            <a:avLst>
              <a:gd name="adj1" fmla="val 18750"/>
              <a:gd name="adj2" fmla="val -8333"/>
              <a:gd name="adj3" fmla="val 22259"/>
              <a:gd name="adj4" fmla="val -9421"/>
              <a:gd name="adj5" fmla="val 44212"/>
              <a:gd name="adj6" fmla="val -22972"/>
            </a:avLst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Traumatische Erfahrungen „mitdenken“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Traumatische Erfahrungen bereits im Anamnese-Gespräch erfrage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Traumatische Erfahrungen bei der  Beobachtung, Interpretation und Reaktion auf Verhaltensweisen berücksichtige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39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40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DBB2-5E15-4240-B26E-CA41323FE69B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42" name="Legende mit Linie 2 24"/>
          <p:cNvSpPr/>
          <p:nvPr/>
        </p:nvSpPr>
        <p:spPr>
          <a:xfrm>
            <a:off x="4572000" y="928800"/>
            <a:ext cx="4330800" cy="4572000"/>
          </a:xfrm>
          <a:prstGeom prst="borderCallout2">
            <a:avLst>
              <a:gd name="adj1" fmla="val 18750"/>
              <a:gd name="adj2" fmla="val -8333"/>
              <a:gd name="adj3" fmla="val 22259"/>
              <a:gd name="adj4" fmla="val -9421"/>
              <a:gd name="adj5" fmla="val 50620"/>
              <a:gd name="adj6" fmla="val -22254"/>
            </a:avLst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Traumatische 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Erfahrungen ernst nehm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Erfahrungen anerkennen, Gewalt verurteil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Erlebtes nicht bagatellisieren, sondern würdig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efühle validier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egebenenfalls an Beratungsstellen oder andere Gesprächspartner (bspw. Pfarrer_in, Psychotherapeut_in) weitervermittel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43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44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1EFC-EE42-45C6-B4C5-24D08D59865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46" name="Legende mit Linie 2 24"/>
          <p:cNvSpPr/>
          <p:nvPr/>
        </p:nvSpPr>
        <p:spPr>
          <a:xfrm>
            <a:off x="4572000" y="928800"/>
            <a:ext cx="4330800" cy="5429160"/>
          </a:xfrm>
          <a:prstGeom prst="borderCallout2">
            <a:avLst>
              <a:gd name="adj1" fmla="val 18750"/>
              <a:gd name="adj2" fmla="val -8333"/>
              <a:gd name="adj3" fmla="val 22259"/>
              <a:gd name="adj4" fmla="val -9421"/>
              <a:gd name="adj5" fmla="val 36453"/>
              <a:gd name="adj6" fmla="val -23212"/>
            </a:avLst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Ressourcen erfrag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Bei Personen, die gut verbal kommunizieren könne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Nach Tätigkeiten oder Sinnes-eindrücken fragen, die sie bisher als hilfreich empfunden hab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Bei Personen, die selbst nicht mehr verbal kommunizieren könne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Angehörige befragen und selbst beobachten, in welchen Situationen die Person zufrieden/entspannt/weniger angespannt wirkt. </a:t>
            </a:r>
            <a:r>
              <a:rPr b="0" lang="de-DE" sz="16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 Was ist dann anders?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In Situationen, in denen die Person unruhig/ angespannt/ panisch o.ä. wirkt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565656"/>
                </a:solidFill>
                <a:latin typeface="Wingdings"/>
                <a:ea typeface="Wingdings"/>
              </a:rPr>
              <a:t>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Bekannte Ressourcen wenn möglich verfügbar mac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47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9574D-9D6F-480C-A611-25059E95215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0" y="928440"/>
            <a:ext cx="4330800" cy="4786200"/>
          </a:xfrm>
          <a:prstGeom prst="rect">
            <a:avLst/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Sicherheit schaff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Äußere Sicherheit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Transparenz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Kontinuität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Innere Sicherheit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Übungen zur Reorientierung anbiet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Besprechen, was die Person braucht, um sich sicher zu fühlen und es verfügbar mac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„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Sie sind nicht allein, ich bin hier bei Ihnen“, „Es ist vorbei“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1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52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FA617-36E0-495A-B214-0A26284D025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54" name="Legende mit Linie 2 24"/>
          <p:cNvSpPr/>
          <p:nvPr/>
        </p:nvSpPr>
        <p:spPr>
          <a:xfrm>
            <a:off x="4500720" y="928800"/>
            <a:ext cx="4402080" cy="5286240"/>
          </a:xfrm>
          <a:prstGeom prst="borderCallout2">
            <a:avLst>
              <a:gd name="adj1" fmla="val 18750"/>
              <a:gd name="adj2" fmla="val -8333"/>
              <a:gd name="adj3" fmla="val 22259"/>
              <a:gd name="adj4" fmla="val -9421"/>
              <a:gd name="adj5" fmla="val 36453"/>
              <a:gd name="adj6" fmla="val -23212"/>
            </a:avLst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Erfahrungen der Selbstwirksamkeit ermöglich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Wahlmöglichkeiten bei Pfleger_innen, Freizeitgestaltung, Essen o.a. lass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Alte Gewohnheiten und Rituale beacht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Bei der Pflege </a:t>
            </a:r>
            <a:r>
              <a:rPr b="1" lang="de-DE" sz="1600" spc="-1" strike="noStrike">
                <a:solidFill>
                  <a:srgbClr val="565656"/>
                </a:solidFill>
                <a:latin typeface="Arial"/>
              </a:rPr>
              <a:t>bspw</a:t>
            </a: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.: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Hand bei Pflege führ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Einverständnis erfragen und Pflegeschritte erklären und ankündigen 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565656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Sichtschutz im Doppelzimmer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Verantwortungsvoll auch mit eigenen Grenzen umgeh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5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56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liennummernplatzhalter 2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2DE0-236C-40F1-ACBE-A8AAC8C625C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58" name="Legende mit Linie 2 24"/>
          <p:cNvSpPr/>
          <p:nvPr/>
        </p:nvSpPr>
        <p:spPr>
          <a:xfrm>
            <a:off x="4572000" y="928800"/>
            <a:ext cx="4259160" cy="4429080"/>
          </a:xfrm>
          <a:prstGeom prst="borderCallout2">
            <a:avLst>
              <a:gd name="adj1" fmla="val 18750"/>
              <a:gd name="adj2" fmla="val -8333"/>
              <a:gd name="adj3" fmla="val 22259"/>
              <a:gd name="adj4" fmla="val -9421"/>
              <a:gd name="adj5" fmla="val 43120"/>
              <a:gd name="adj6" fmla="val -22736"/>
            </a:avLst>
          </a:prstGeom>
          <a:solidFill>
            <a:srgbClr val="f0eff1"/>
          </a:solidFill>
          <a:ln w="9360">
            <a:solidFill>
              <a:srgbClr val="56565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Vermutungen über traumatische Erfahrungen im Team teilen und besprechen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Im Team eine gemeinsame Kultur des Hinschauens entwickel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Unsicherheiten besprechen und gemeinsame Herangehensweisen erarbeit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egebenenfalls Unterstützung /Supervision /Fortbildung in Anspruch nehm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59" name="Picture 3" descr="C:\Users\Wilwasser\AppData\Local\Microsoft\Windows\Temporary Internet Files\Content.IE5\N486E3VY\MC900281285[1].wmf"/>
          <p:cNvPicPr/>
          <p:nvPr/>
        </p:nvPicPr>
        <p:blipFill>
          <a:blip r:embed="rId1"/>
          <a:stretch/>
        </p:blipFill>
        <p:spPr>
          <a:xfrm>
            <a:off x="1285920" y="1643040"/>
            <a:ext cx="2519280" cy="3729240"/>
          </a:xfrm>
          <a:prstGeom prst="rect">
            <a:avLst/>
          </a:prstGeom>
          <a:ln w="0">
            <a:noFill/>
          </a:ln>
        </p:spPr>
      </p:pic>
      <p:sp>
        <p:nvSpPr>
          <p:cNvPr id="160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42DBF-40ED-4795-A36B-4121366D484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62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685800" y="175896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4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Reorieni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FE10-B1C3-4DD4-AF6B-731AAA54E86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2" name="Picture 13" descr="swpf-logo"/>
          <p:cNvPicPr/>
          <p:nvPr/>
        </p:nvPicPr>
        <p:blipFill>
          <a:blip r:embed="rId1"/>
          <a:stretch/>
        </p:blipFill>
        <p:spPr>
          <a:xfrm>
            <a:off x="228600" y="76320"/>
            <a:ext cx="685800" cy="55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5_NRW_MGEPA_CMYK_Fsrder_b"/>
          <p:cNvPicPr/>
          <p:nvPr/>
        </p:nvPicPr>
        <p:blipFill>
          <a:blip r:embed="rId2"/>
          <a:stretch/>
        </p:blipFill>
        <p:spPr>
          <a:xfrm>
            <a:off x="1219320" y="130320"/>
            <a:ext cx="1676160" cy="479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250920" y="1357200"/>
            <a:ext cx="8424720" cy="40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Unterstützungsmöglichkeiten für alte Frauen mit sexualisierten Gewalterfahrung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5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6" name="Picture 24" descr="WiWaLogo_4c"/>
          <p:cNvPicPr/>
          <p:nvPr/>
        </p:nvPicPr>
        <p:blipFill>
          <a:blip r:embed="rId3"/>
          <a:stretch/>
        </p:blipFill>
        <p:spPr>
          <a:xfrm>
            <a:off x="0" y="5400720"/>
            <a:ext cx="255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45E01-C467-4D3F-8228-D305DF8AB5A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67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457200" y="70344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Übungen zur Reorienti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57120" y="1903320"/>
            <a:ext cx="79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terbrechung von situationsbedingten Dissoziationen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Reorientierung durch taktile Erfahrungen, Geräusche,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Bewegung, Gerüche, etc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Musterunterbrech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Klare, deutliche Ansprach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Kognitive und haptische Reorientier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Fokussierung auf den Atem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Blickkontak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Spezifische Aufgabenstellungen, …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	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Ziel ist der Gegenwartsbezug!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3000240" y="6213600"/>
            <a:ext cx="974880" cy="215640"/>
          </a:xfrm>
          <a:prstGeom prst="rightArrow">
            <a:avLst>
              <a:gd name="adj1" fmla="val 50000"/>
              <a:gd name="adj2" fmla="val 113022"/>
            </a:avLst>
          </a:prstGeom>
          <a:solidFill>
            <a:srgbClr val="00679d"/>
          </a:solidFill>
          <a:ln w="9360">
            <a:solidFill>
              <a:srgbClr val="0067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71" name="Picture 14" descr="C:\Users\Wilwasser\AppData\Local\Microsoft\Windows\Temporary Internet Files\Content.IE5\LOE784WY\MC900254370[1].wmf"/>
          <p:cNvPicPr/>
          <p:nvPr/>
        </p:nvPicPr>
        <p:blipFill>
          <a:blip r:embed="rId2"/>
          <a:stretch/>
        </p:blipFill>
        <p:spPr>
          <a:xfrm>
            <a:off x="6589800" y="3395520"/>
            <a:ext cx="1787400" cy="1319400"/>
          </a:xfrm>
          <a:prstGeom prst="rect">
            <a:avLst/>
          </a:prstGeom>
          <a:ln w="0">
            <a:noFill/>
          </a:ln>
        </p:spPr>
      </p:pic>
      <p:sp>
        <p:nvSpPr>
          <p:cNvPr id="172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DA21-8C8E-4CE1-BC25-80522965FD24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74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685800" y="175896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76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Atem- und Körperüb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E50A-E398-45B4-9ED7-6F7B2494F1DA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79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80" name="Textfeld 4"/>
          <p:cNvSpPr/>
          <p:nvPr/>
        </p:nvSpPr>
        <p:spPr>
          <a:xfrm>
            <a:off x="357120" y="785880"/>
            <a:ext cx="8286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Weitere Beispiele für Übungen zur 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Reorienti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81" name="Textfeld 5"/>
          <p:cNvSpPr/>
          <p:nvPr/>
        </p:nvSpPr>
        <p:spPr>
          <a:xfrm>
            <a:off x="857160" y="2143080"/>
            <a:ext cx="7929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onzentration auf eine Blickrichtung und Beschreibung dessen, was dort zu sehen is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Bewegung im Raum und Spüren der Füße auf dem Bod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ufstehen, Fenster öffnen, durchatm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Den eigenen Körper mit flachen Händen abklatschen oder die eigenen Hände knet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Igelbälle in die Hand nehmen und spür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181080" indent="-18108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82" name="Picture 6" descr="C:\Users\Wilwasser\AppData\Local\Microsoft\Windows\Temporary Internet Files\Content.IE5\89GCAT46\MC900390686[1].wmf"/>
          <p:cNvPicPr/>
          <p:nvPr/>
        </p:nvPicPr>
        <p:blipFill>
          <a:blip r:embed="rId2"/>
          <a:stretch/>
        </p:blipFill>
        <p:spPr>
          <a:xfrm>
            <a:off x="6300720" y="4653000"/>
            <a:ext cx="1852560" cy="1560600"/>
          </a:xfrm>
          <a:prstGeom prst="rect">
            <a:avLst/>
          </a:prstGeom>
          <a:ln w="0">
            <a:noFill/>
          </a:ln>
        </p:spPr>
      </p:pic>
      <p:sp>
        <p:nvSpPr>
          <p:cNvPr id="183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21D34-0025-48E8-B22B-E0906AC523B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85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86" name="Textfeld 4"/>
          <p:cNvSpPr/>
          <p:nvPr/>
        </p:nvSpPr>
        <p:spPr>
          <a:xfrm>
            <a:off x="357120" y="78588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Ressourcenorienti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87" name="Textfeld 5"/>
          <p:cNvSpPr/>
          <p:nvPr/>
        </p:nvSpPr>
        <p:spPr>
          <a:xfrm>
            <a:off x="357120" y="1882800"/>
            <a:ext cx="8286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eine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  <a:ea typeface="ヒラギノ角ゴ Pro W3"/>
              </a:rPr>
              <a:t>Grundhaltung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, die sich an den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  <a:ea typeface="ヒラギノ角ゴ Pro W3"/>
              </a:rPr>
              <a:t>Stärken, Kompetenzen und Fähigkeiten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 und nicht an Defiziten oder Schwächen orientier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Prämisse ist hierbei, dass jeder Mensch über Ressourcen verfügt, diese aber nicht immer abrufbar, einsetzbar sind und somit aktuell nicht zur Zielerreichung oder Lösung genutzt werden könn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Ziel ist das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  <a:ea typeface="ヒラギノ角ゴ Pro W3"/>
              </a:rPr>
              <a:t>Erinnern, Reaktivieren von Ressourcen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um Entwicklung, Lösung oder Veränderung zu ermöglich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622440" indent="-165240">
              <a:lnSpc>
                <a:spcPct val="100000"/>
              </a:lnSpc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88" name="Picture 5" descr="C:\Users\Wilwasser\AppData\Local\Microsoft\Windows\Temporary Internet Files\Content.IE5\N486E3VY\MC900391004[1].wmf"/>
          <p:cNvPicPr/>
          <p:nvPr/>
        </p:nvPicPr>
        <p:blipFill>
          <a:blip r:embed="rId2"/>
          <a:stretch/>
        </p:blipFill>
        <p:spPr>
          <a:xfrm>
            <a:off x="7613640" y="4929120"/>
            <a:ext cx="714240" cy="906480"/>
          </a:xfrm>
          <a:prstGeom prst="rect">
            <a:avLst/>
          </a:prstGeom>
          <a:ln w="0">
            <a:noFill/>
          </a:ln>
        </p:spPr>
      </p:pic>
      <p:sp>
        <p:nvSpPr>
          <p:cNvPr id="189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liennummernplatzhalter 4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497D-99E8-4900-999C-2AD1DFC5020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91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685800" y="175896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3" name="Textfeld 7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Ressourcen erfrag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7757-8EF8-48B2-A64A-D808130B4B7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96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97" name="Textfeld 7"/>
          <p:cNvSpPr/>
          <p:nvPr/>
        </p:nvSpPr>
        <p:spPr>
          <a:xfrm>
            <a:off x="785880" y="1951200"/>
            <a:ext cx="7929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Hantke, L./Görges, H.-J. (2012): Handbuch Traumakompetenz. Basiswissen für Therapie, Beratung und Pädagogik. Paderborn: Junfermann.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8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99" name="Textfeld 5"/>
          <p:cNvSpPr/>
          <p:nvPr/>
        </p:nvSpPr>
        <p:spPr>
          <a:xfrm>
            <a:off x="2643120" y="7142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Literatur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F80E-3876-43CE-8D51-9C674C3E036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8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285920" y="7858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Was erwartet mich heute?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857160" y="1893960"/>
            <a:ext cx="70563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spcBef>
                <a:spcPts val="1250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urze Wiederholung Retraumatisierung und Trauma-Reaktivierung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271440" indent="-271440">
              <a:spcBef>
                <a:spcPts val="1250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as kann helfen?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271440" indent="-271440">
              <a:spcBef>
                <a:spcPts val="1250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Unerhörtem Raum geb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271440" indent="-271440">
              <a:spcBef>
                <a:spcPts val="1250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rategien und Übungen zur Reorientierung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271440" indent="-271440">
              <a:spcBef>
                <a:spcPts val="1250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Ressourcen erfra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1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FDBE-2B5D-44D1-9E9F-DC4ED9F17D9D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73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428760" y="782640"/>
            <a:ext cx="814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Retraumatisierung und Trauma-Reaktivi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857160" y="242892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Retraumatisierung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= Eine erneute traumatisierende Erfahrung trifft auf ein bereits bestehendes zurückliegendes Trauma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868320" y="4325760"/>
            <a:ext cx="7489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Trauma-Reaktivierung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= Ausgelöst durch bestimmte Schlüsselreize wird ein zurückliegendes Trauma wieder genau so oder ähnlich wie in der damaligen Situation erleb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77" name="Picture 8" descr="C:\Users\Wilwasser\AppData\Local\Microsoft\Windows\Temporary Internet Files\Content.IE5\CEOZ27RP\MP900448334[1].jpg"/>
          <p:cNvPicPr/>
          <p:nvPr/>
        </p:nvPicPr>
        <p:blipFill>
          <a:blip r:embed="rId2"/>
          <a:stretch/>
        </p:blipFill>
        <p:spPr>
          <a:xfrm>
            <a:off x="7786800" y="2357280"/>
            <a:ext cx="1143000" cy="1717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C:\Users\Wilwasser\AppData\Local\Microsoft\Windows\Temporary Internet Files\Content.IE5\CEOZ27RP\MP900433723[1].jpg"/>
          <p:cNvPicPr/>
          <p:nvPr/>
        </p:nvPicPr>
        <p:blipFill>
          <a:blip r:embed="rId3"/>
          <a:stretch/>
        </p:blipFill>
        <p:spPr>
          <a:xfrm>
            <a:off x="7093080" y="5386320"/>
            <a:ext cx="1836720" cy="1185840"/>
          </a:xfrm>
          <a:prstGeom prst="rect">
            <a:avLst/>
          </a:prstGeom>
          <a:ln w="0">
            <a:noFill/>
          </a:ln>
        </p:spPr>
      </p:pic>
      <p:sp>
        <p:nvSpPr>
          <p:cNvPr id="79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822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Mögliche Auslöser in der Pflege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56800" y="1832040"/>
            <a:ext cx="792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ktuelle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Sinneserfahrungen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bzw.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Situationen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, die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Ähnlichkeiten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mit den Erfahrungen während des Traumageschehens haben, wie bspw.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358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erüche, Geräusche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Sirenen, Donnergroll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(Fremd-)Sprache, Dialekte, Tonfall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Gesten, Mimik, ein bestimmtes Lächel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Dunkelheit, verschlossene Türen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eine Person, die plötzlich ohne zu klopfen im Zimmer steht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pflegerische Handlungen und das damit einhergehende Gefühl der Hilflosigkeit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Radio-/TV-Übertragungen im Aufenthaltsraum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marL="335880" indent="-335880">
              <a:lnSpc>
                <a:spcPct val="125000"/>
              </a:lnSpc>
              <a:spcBef>
                <a:spcPts val="400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565656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82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83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78264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Mögliche Reaktionen auf Auslöser…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77724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ntsprechen sowohl den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emotionalen Stressreaktionen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ährend des Traumatas, wie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271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79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Flucht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– bspw. Unruhe, Hin- und Herlaufen, Übererregung, Aufgeregtheit, ausgeprägter Bewegungsdrang, Schlaflosigkeit, …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79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Gegenwehr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– bspw. Abwehr, Verweigerung, aggressives Verhalten, Schreien, massives Abwerten, …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679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Erstarrung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 – bspw. depressives Verhalten, sozialer Rückzug, Apathie, Sprachlosigkeit, Gedächtnislücken, …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86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87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920" y="782640"/>
            <a:ext cx="878688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Mögliche Reaktionen auf Auslöser…</a:t>
            </a:r>
            <a:endParaRPr b="0" lang="en-US" sz="36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80298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…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ls auch den </a:t>
            </a:r>
            <a:r>
              <a:rPr b="0" lang="de-DE" sz="2000" spc="-1" strike="noStrike">
                <a:solidFill>
                  <a:srgbClr val="00679d"/>
                </a:solidFill>
                <a:latin typeface="Arial"/>
              </a:rPr>
              <a:t>körperlichen Stressreaktionen </a:t>
            </a: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während des Traumatas, wie bspw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-27144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Herzras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-27144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ngst- und Panikattack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-27144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Blutzuckerschwank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-27144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tembeschwerden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-271440">
              <a:spcBef>
                <a:spcPts val="499"/>
              </a:spcBef>
              <a:buClr>
                <a:srgbClr val="56565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Übelkeit …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271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0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91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liennummernplatzhalter 5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D11C-2CEC-4291-A774-BC20C1E95970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3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http://3.bp.blogspot.com/-LzaQaH0hEjc/UFMRTT2cswI/AAAAAAAAAfg/Plxu1INnLMo/s400/Radio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652840" y="2349360"/>
            <a:ext cx="3809880" cy="2524320"/>
          </a:xfrm>
          <a:prstGeom prst="rect">
            <a:avLst/>
          </a:prstGeom>
          <a:ln w="0">
            <a:noFill/>
          </a:ln>
        </p:spPr>
      </p:pic>
      <p:sp>
        <p:nvSpPr>
          <p:cNvPr id="95" name="Textfeld 6"/>
          <p:cNvSpPr/>
          <p:nvPr/>
        </p:nvSpPr>
        <p:spPr>
          <a:xfrm>
            <a:off x="1143000" y="114300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„</a:t>
            </a:r>
            <a:r>
              <a:rPr b="1" lang="de-DE" sz="2400" spc="-1" strike="noStrike">
                <a:solidFill>
                  <a:srgbClr val="565656"/>
                </a:solidFill>
                <a:latin typeface="Arial"/>
              </a:rPr>
              <a:t>Es wühlt zuerst auf, aber hinterher wird’s ein bisschen leichter.“</a:t>
            </a: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6" name="langfassung bünde.WAV" descr=""/>
          <p:cNvPicPr/>
          <p:nvPr/>
        </p:nvPicPr>
        <p:blipFill>
          <a:blip r:embed="rId4"/>
          <a:stretch/>
        </p:blipFill>
        <p:spPr>
          <a:xfrm>
            <a:off x="6581880" y="2593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7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8" name="Rechteck 8"/>
          <p:cNvSpPr/>
          <p:nvPr/>
        </p:nvSpPr>
        <p:spPr>
          <a:xfrm>
            <a:off x="2286000" y="53244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565555"/>
                </a:solidFill>
                <a:uFillTx/>
                <a:latin typeface="Arial"/>
                <a:hlinkClick r:id="rId5"/>
              </a:rPr>
              <a:t>www.alterundtrauma.d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7612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BE4D-026D-4580-BAEB-50ADC4A8AE0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0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"/>
          <p:cNvSpPr/>
          <p:nvPr/>
        </p:nvSpPr>
        <p:spPr>
          <a:xfrm>
            <a:off x="457200" y="781200"/>
            <a:ext cx="82296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Was kann helfen?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657360" y="1809720"/>
            <a:ext cx="820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3" name="Picture 9" descr="C:\Users\Wilwasser\AppData\Local\Microsoft\Windows\Temporary Internet Files\Content.IE5\N486E3VY\MP900407501[1].jpg"/>
          <p:cNvPicPr/>
          <p:nvPr/>
        </p:nvPicPr>
        <p:blipFill>
          <a:blip r:embed="rId2"/>
          <a:stretch/>
        </p:blipFill>
        <p:spPr>
          <a:xfrm>
            <a:off x="1943280" y="2060640"/>
            <a:ext cx="5187600" cy="3456000"/>
          </a:xfrm>
          <a:prstGeom prst="rect">
            <a:avLst/>
          </a:prstGeom>
          <a:ln w="0">
            <a:noFill/>
          </a:ln>
        </p:spPr>
      </p:pic>
      <p:sp>
        <p:nvSpPr>
          <p:cNvPr id="104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18:52Z</dcterms:created>
  <dc:creator>Anja Richter</dc:creator>
  <dc:description/>
  <dc:language>en-US</dc:language>
  <cp:lastModifiedBy>Wilwasser</cp:lastModifiedBy>
  <dcterms:modified xsi:type="dcterms:W3CDTF">2016-05-13T08:32:52Z</dcterms:modified>
  <cp:revision>148</cp:revision>
  <dc:subject/>
  <dc:title>PowerPoint-Präsentation</dc:title>
</cp:coreProperties>
</file>